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CACA-A293-45F7-AECA-F60D19780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31CF-DD60-4EC2-824C-19BA7D0C7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2A02-DFD1-423D-9255-32DCD3A4B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0F7A-527E-4A11-B3D2-AA7A2516B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6F88-2F09-42D0-80ED-71B918267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0F3F-C249-4A0A-BC33-DD65B9113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B0AF-827D-4677-97A2-21E0D031C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74E7-89BB-4DA5-B4F0-30D45EDC5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6340-5579-45E0-BE3C-2687D9D20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930D-D2B4-46E2-9946-7F6333006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E0BD-99CC-4D90-AB36-EE12BA155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A76F-03F9-491E-B790-F2365FB94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78ED-F80A-4D8A-91E0-E66BCE55F4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5BC-017B-4965-B604-C7031E627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epractice, www.101.qs.com, or a selection of video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0BE-C4F8-4DBA-AAC7-4DE3453AA7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050-4AB6-41A9-94C3-A973AF7AA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E37-0C66-431A-848D-5AB01BE897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EDA-1C30-4586-8CC3-5AC1DD53C0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Assessment of Learning is No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A71-BDCD-4909-8795-ADAAB0AEB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9D8F-F34B-4602-A310-00DB97410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053-816A-470E-B61A-DB09E40F2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DE42-A6A8-4A0E-B96C-697F34AF88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und Robi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8B4-1E0F-4E40-BCC4-7E4F45DA9E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19E6-C940-467F-84C8-E4EF5BDCF8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I insert link to video on Evern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B6C7-B208-42FD-9024-FD24AB664E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2T22:35:03Z</dcterms:modified>
  <cp:revision>27</cp:revision>
  <dc:subject/>
  <dc:title>&lt;Title&gt;</dc:title>
</cp:coreProperties>
</file>